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6D6-5352-4955-9BC9-AFBEA3D7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7F7-31E6-4374-82D0-06FD390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093-EC06-404A-8AF2-3A4F5324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781-400C-4FD4-B742-E71D04F3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937-0F9A-43B9-86C5-2CD5FCA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45C-1B62-404A-B90E-E62EB12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5FD-A729-4347-A879-2E26862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FEF-8A52-4CCE-B4E4-E069170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D3D-D68A-4145-853F-2DD7295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6C0-A469-452C-ABCC-12350FB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2A2-F033-4F29-8C6B-498BBA7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AB8-A035-4445-9E94-99E3954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AD1-FB19-4B6A-92A5-8F427EDD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yan O and William 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11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Explain why the Aztec and Inca civilizations declined in the 16th centu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ztecs civilization is  located in Central Mex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capital is Tenochtilan –city built in middle of la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ere Polytheistic –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ced other tribes to give them mon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often used human  sacrifice to please many of there go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ieses called Smallpox made many of them sick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600" y="16009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6200000">
            <a:off x="4663440" y="1585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008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4663440" y="1585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9120" y="5257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ivilization lived on the Mexican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en one city which would make it harder for them to get conqu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gion did not have as muc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slaves-who could gain there free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84240" y="1676520"/>
            <a:ext cx="290196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6400" y="6171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um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near Andes Mt. in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s capital i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no written language but they had a spok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they use rope with knots in it to send mess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d animal sacrifice, and only on special occasions practiced human sacrifice mostly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4080" y="4714920"/>
            <a:ext cx="4210200" cy="23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60634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.fullerto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welcomed the Spanish when they thought Cortez finally arrived with his tro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tricked the Aztecs into following ther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Spanish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refused to follow the Spanish reli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worshipped a god called Quetzacoa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82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Explorer and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 tribes was around 2,000,00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s did not value Gold as much as the Spanish did because they used the gold for decoration and the Spanish used it for mone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conquistadors and explorers change the Central and South Americas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Central and South America  were changed forever because the Spanish taught the people thei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most of the people are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419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104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682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4Z</dcterms:created>
  <dc:creator>jklib</dc:creator>
  <dc:description/>
  <dc:language>en-US</dc:language>
  <cp:lastModifiedBy>jklib</cp:lastModifiedBy>
  <dcterms:modified xsi:type="dcterms:W3CDTF">2011-11-30T17:26:24Z</dcterms:modified>
  <cp:revision>8</cp:revision>
  <dc:subject/>
  <dc:title>Pre-Columbian Civilization</dc:title>
</cp:coreProperties>
</file>